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67797-FACD-4F12-8FB2-FFBA7DFB4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561AD-C7EA-49CE-BEBA-5158C3BDE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8F3B3-1C37-4173-A33C-26A049A39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AB6AD-8552-43F8-9CF1-47E480E95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BD3F3-3348-4173-AC01-652927BAC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2A66A-E6AB-4BFA-9EEC-602B2D69A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4986A-9287-4D8A-89AD-FFA134889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70E1A-17E6-4E06-8202-619CBC647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60E19-A077-408E-9E4F-E06BFEFA3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03F0A-7213-4468-A8B7-1C6791A4F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88D1B-ADA7-4187-AF30-828BF3FBA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FC7E0-F7FD-46C0-8F4A-3DB37BF67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44E98-5A03-40A4-AF60-17A850271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93E7F-1AD9-4F79-B3AB-394988833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953BC-5AFF-4605-B854-D440ED74A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1AEAA-2410-43EC-869A-3BD77ACDE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FB5A4-DA7D-4038-876D-601DEE653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372FD-F253-4089-80A0-87BA926E9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97038-5C21-4911-939F-5B4F14D75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61677-D663-4122-8868-7A162B632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88E6-A998-47E5-995B-DEC10BC30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1AEBE-FD19-41CA-9B99-D5BBFCC11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7234-BAE1-4A9A-98C1-65890931B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7093F-F33B-43F3-8F1A-CC2A5715D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30A6-6159-4BFC-8510-E7BAD396E9BA}"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C9B3-CAC1-432A-9D5E-426C2A6F97CE}"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Grades 6-8 Middle School</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How to Create Simple Animation in PowerPoint</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9"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we learned the advantages to animating a PowerPoint.  We discovered that is simple and fun.  Who can tell me a few of the advantages to using the animation feature?</a:t>
            </a:r>
            <a:endParaRPr b="0" lang="en-US" sz="3200" spc="-1" strike="noStrike">
              <a:solidFill>
                <a:srgbClr val="212164"/>
              </a:solidFill>
              <a:latin typeface="Arial"/>
            </a:endParaRPr>
          </a:p>
        </p:txBody>
      </p:sp>
      <p:sp>
        <p:nvSpPr>
          <p:cNvPr id="111"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created a PowerPoint that included text, graphic, and animation.  It was captivating because of the terrific effects.  </a:t>
            </a:r>
            <a:endParaRPr b="0" lang="en-US" sz="3200" spc="-1" strike="noStrike">
              <a:solidFill>
                <a:srgbClr val="212164"/>
              </a:solidFill>
              <a:latin typeface="Arial"/>
            </a:endParaRPr>
          </a:p>
        </p:txBody>
      </p:sp>
      <p:sp>
        <p:nvSpPr>
          <p:cNvPr id="114"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imation allows the audience to become more excited about the presentation.</a:t>
            </a:r>
            <a:endParaRPr b="0" lang="en-US" sz="2800" spc="-1" strike="noStrike">
              <a:solidFill>
                <a:srgbClr val="212164"/>
              </a:solidFill>
              <a:latin typeface="Arial"/>
            </a:endParaRPr>
          </a:p>
          <a:p>
            <a:pPr marL="294840" indent="-294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sing the slideshow menu and custom animation feature, we can make some really exciting PowerPoint's.  </a:t>
            </a: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948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8"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is a way that I can make my PowerPoint presentations standout and captivate the audienc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develop outstanding animation sequences that will impress my audience?</a:t>
            </a:r>
            <a:endParaRPr b="0" lang="en-US" sz="3200" spc="-1" strike="noStrike">
              <a:solidFill>
                <a:srgbClr val="212164"/>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our last session, we discussed some of the basic features of PowerPoint.  We discussed ways to make slides, add text, and graphic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I will show you one of the advanced features, which will be adding animation and text.</a:t>
            </a:r>
            <a:r>
              <a:rPr b="0" lang="en-US" sz="3200" spc="-1" strike="noStrike" u="sng">
                <a:solidFill>
                  <a:srgbClr val="212164"/>
                </a:solidFill>
                <a:uFillTx/>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add the animation.  There are several steps involved.  First, you will need to think about what you would like to put on your PowerPoint.  At this point, you should add some text and photos to a slide.  Take a few minutes now to create the slid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 is your turn to try animating your slides.  Take some time to create 5 slides.  For each slide, add different animations.  We will share with the entire class after you complete the task.  I will be walking around the room to assist you.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 will be creating five slides, each with animation of the text and graphics.  Take the next 30 minutes to add your animation, and then we will come back together and share.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ork independently to create individual PowerPoint animation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08T14:31:39Z</dcterms:modified>
  <cp:revision>4</cp:revision>
  <dc:subject/>
  <dc:title>Workshop Title</dc:title>
</cp:coreProperties>
</file>